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C11-F2E9-4A68-929E-AA0BE1A8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E2A-03F3-41A6-9E4E-DCD1F11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3C9-D3B7-4DD9-959F-58BBA206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227-A76A-4B6F-AA8B-34DD4025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361-38AB-4224-BD21-88FFC63A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AEA-3490-444E-89CD-54E3EBD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B5D-02F3-4AF6-8262-0AD2AF4A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B6A-3DC6-4E24-A8EE-DE4A62EE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274-60CF-46CC-AC14-901704C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462-A30A-48BB-88DB-D97681DA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19C-09D8-4327-B480-7F99CEC8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579-342F-4FDC-B2B4-91C7715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41FF-6DEC-47CC-A0DE-C67BD2975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ravel-images.com/rosto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upload.wikimedia.org/wikipedia/commons/thumb/d/d1/Ferrocarril_Suburbano_de_la_Zona_Metropolitana_del_Valle_de_M&#233;xico_estaci&#243;n_Buenavista.jpg/180px-Ferrocarril_Suburbano_de_la_Zona_Metropolitana_del_Valle_de_M&#233;xico_estaci&#243;n_Buenavista.jpg&amp;imgrefurl=http://en.wikipedia.org/wiki/Mexico_City&amp;usg=__tv4vkM-YhMrAhCdv7SdS_sr030s=&amp;h=135&amp;w=180&amp;sz=12&amp;hl=en&amp;start=5&amp;tbnid=zY2kFcsR4A1DhM:&amp;tbnh=76&amp;tbnw=101&amp;prev=/images%3Fq%3Destacion%2Bde%2Bpolicia%2Bmexico%2Bcity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10.photobucket.com/albums/n120/vhaldemar1/mexico/09_ciudad_de_mexico_estadio_azteca_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avelpod.com/cache/city_maps/coyoacan-mexico.gif&amp;imgrefurl=http://www.travelpod.com/travel-blog-city/Mexico/Coyoacan/tpod.html&amp;usg=__loduIomGzmv8KNMdIZ7H9nyORoQ=&amp;h=500&amp;w=500&amp;sz=93&amp;hl=en&amp;start=7&amp;tbnid=jiZ5vjVk1HYXiM:&amp;tbnh=130&amp;tbnw=130&amp;prev=/images%3Fq%3Dcoyacan%2Bmexico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Mexico City Downtown Royalty Free Stock Photos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0958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ves en la foto? ¿Puedes describir la ciu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0600" y="2062080"/>
            <a:ext cx="4762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953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mexico46: Mexico City: Aztec statue - ruins of Tenochtitlan / ruinas de Tenochtitlan - photo by M.Torres - (c) Travel-Images.com - Stock Photography agency -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609480"/>
            <a:ext cx="5114880" cy="5943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5400000">
            <a:off x="-1738440" y="3214800"/>
            <a:ext cx="5904000" cy="16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a estatua azteca en el Paseo de la Reform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9280" y="1143000"/>
            <a:ext cx="410544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60199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áles observaciones puedes ha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54864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Qué moderno! ¿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219320"/>
            <a:ext cx="5105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istrito Federal. The Constitution Square Plaza de la Constituci�n El Z�calo Of  Mexico City D.F. Mexico Travel &amp; Tour Pictures, Photos, &amp; Information."/>
          <p:cNvPicPr/>
          <p:nvPr/>
        </p:nvPicPr>
        <p:blipFill>
          <a:blip r:embed="rId1"/>
          <a:stretch/>
        </p:blipFill>
        <p:spPr>
          <a:xfrm>
            <a:off x="1752480" y="17524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47800" y="1490760"/>
            <a:ext cx="5648400" cy="3876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57150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Y esta foto? ¿Qué ves aqu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71560" y="1238400"/>
            <a:ext cx="56008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Model Templo Mayor. The Constitution Square Plaza de la Constituci�n El Z�calo Of  Mexico City D.F. Mexico Travel &amp; Tour Pictures, Photos, &amp; Information."/>
          <p:cNvPicPr/>
          <p:nvPr/>
        </p:nvPicPr>
        <p:blipFill>
          <a:blip r:embed="rId1"/>
          <a:stretch/>
        </p:blipFill>
        <p:spPr>
          <a:xfrm>
            <a:off x="1600200" y="1219320"/>
            <a:ext cx="5562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295280"/>
            <a:ext cx="510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71560" y="1566720"/>
            <a:ext cx="5600880" cy="372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3880" y="5562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Y esta foto? ¿Dónde estamos ahora? Hay diferencias entre esta ciudad y el Distrito Fede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952880" cy="448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3341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y en el fondo? ¿Qué hay en la foto? ¿Dónde está esta ciu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6248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Ếsta es el Palacio de Bellas Artes en el Distrito Federal…¿Puedes describirlo un po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4800600" cy="464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6019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parte del parque Chapultepec…¿Qué ves en est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Templo Mayor Ruins"/>
          <p:cNvPicPr/>
          <p:nvPr/>
        </p:nvPicPr>
        <p:blipFill>
          <a:blip r:embed="rId1"/>
          <a:stretch/>
        </p:blipFill>
        <p:spPr>
          <a:xfrm>
            <a:off x="533520" y="76212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Templo Mayor"/>
          <p:cNvPicPr/>
          <p:nvPr/>
        </p:nvPicPr>
        <p:blipFill>
          <a:blip r:embed="rId2"/>
          <a:stretch/>
        </p:blipFill>
        <p:spPr>
          <a:xfrm>
            <a:off x="4876920" y="1752480"/>
            <a:ext cx="33336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emplo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533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un terremoto, estas ruinas aztecas aparecieron en las calles así que se puede decir que México es moderno y antiguo a la v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563868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5943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piensas de esta foto? ¿Es la misma ciu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14300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3552840" cy="273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4800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asa en Coyoacá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295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mapa de la ciudad de México, D.F.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58672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puedes decir sobre est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52:19Z</dcterms:created>
  <dc:creator>cderrane</dc:creator>
  <dc:description/>
  <dc:language>en-US</dc:language>
  <cp:lastModifiedBy>jbarber</cp:lastModifiedBy>
  <dcterms:modified xsi:type="dcterms:W3CDTF">2009-09-25T11:53:17Z</dcterms:modified>
  <cp:revision>3</cp:revision>
  <dc:subject/>
  <dc:title>Slide 1</dc:title>
</cp:coreProperties>
</file>